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9.pct" ContentType="image/x-pict"/>
  <Override PartName="/ppt/media/image8.png" ContentType="image/png"/>
  <Override PartName="/ppt/media/image13.png" ContentType="image/png"/>
  <Override PartName="/ppt/media/image18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732-F648-4483-8616-04D4BB50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BC2-1382-4C35-B779-E2F930B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721-4DF7-4A27-B838-95315360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EAC-37FC-4AC2-80B6-DCA99887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27B-5D27-4CC5-9CD9-32B84758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8FC-AD04-4AD4-8A75-6740997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E2C-4C33-4B68-A047-767E0424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7BE-0D9E-478E-B3C3-F2F9DDD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7B1-90F3-4DB7-A548-165958C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135-14DD-457A-AD61-0D83115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1C0-1B23-49E7-914D-ADA41FA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EDE-9AB1-4CA1-AA1E-D6C73CF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B8C3E-98E3-4C21-B29A-551DA7E1F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93FC7-F90A-4C84-B195-B12E2E16C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ct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Picture 15" descr="Lever"/>
          <p:cNvPicPr/>
          <p:nvPr/>
        </p:nvPicPr>
        <p:blipFill>
          <a:blip r:embed="rId1"/>
          <a:srcRect l="0" t="26580" r="0" b="6859"/>
          <a:stretch/>
        </p:blipFill>
        <p:spPr>
          <a:xfrm>
            <a:off x="6894360" y="5651640"/>
            <a:ext cx="1865520" cy="82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rivewheel"/>
          <p:cNvPicPr/>
          <p:nvPr/>
        </p:nvPicPr>
        <p:blipFill>
          <a:blip r:embed="rId2"/>
          <a:stretch/>
        </p:blipFill>
        <p:spPr>
          <a:xfrm>
            <a:off x="7580160" y="3949560"/>
            <a:ext cx="117972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"/>
          <p:cNvPicPr/>
          <p:nvPr/>
        </p:nvPicPr>
        <p:blipFill>
          <a:blip r:embed="rId3"/>
          <a:stretch/>
        </p:blipFill>
        <p:spPr>
          <a:xfrm>
            <a:off x="6680160" y="2232000"/>
            <a:ext cx="2079720" cy="110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u-rail-screw-white"/>
          <p:cNvPicPr/>
          <p:nvPr/>
        </p:nvPicPr>
        <p:blipFill>
          <a:blip r:embed="rId4"/>
          <a:stretch/>
        </p:blipFill>
        <p:spPr>
          <a:xfrm>
            <a:off x="4438800" y="20574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onkey_pulley_weight"/>
          <p:cNvPicPr/>
          <p:nvPr/>
        </p:nvPicPr>
        <p:blipFill>
          <a:blip r:embed="rId5"/>
          <a:stretch/>
        </p:blipFill>
        <p:spPr>
          <a:xfrm>
            <a:off x="4572000" y="3809880"/>
            <a:ext cx="8539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ell%20on%20Rue%20Toulouse%20pulley%20P6200174"/>
          <p:cNvPicPr/>
          <p:nvPr/>
        </p:nvPicPr>
        <p:blipFill>
          <a:blip r:embed="rId6"/>
          <a:stretch/>
        </p:blipFill>
        <p:spPr>
          <a:xfrm>
            <a:off x="4438800" y="5651640"/>
            <a:ext cx="143028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7"/>
          <a:stretch/>
        </p:blipFill>
        <p:spPr>
          <a:xfrm>
            <a:off x="4365720" y="303120"/>
            <a:ext cx="1488960" cy="132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8"/>
          <a:stretch/>
        </p:blipFill>
        <p:spPr>
          <a:xfrm>
            <a:off x="1409760" y="205740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9"/>
          <a:stretch/>
        </p:blipFill>
        <p:spPr>
          <a:xfrm>
            <a:off x="2241720" y="3763800"/>
            <a:ext cx="6904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10"/>
          <a:stretch/>
        </p:blipFill>
        <p:spPr>
          <a:xfrm>
            <a:off x="262080" y="5769000"/>
            <a:ext cx="2295360" cy="95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11"/>
          <a:stretch/>
        </p:blipFill>
        <p:spPr>
          <a:xfrm>
            <a:off x="1882800" y="744480"/>
            <a:ext cx="67464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12"/>
          <a:stretch/>
        </p:blipFill>
        <p:spPr>
          <a:xfrm>
            <a:off x="7491240" y="438120"/>
            <a:ext cx="14623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14" descr=""/>
          <p:cNvPicPr/>
          <p:nvPr/>
        </p:nvPicPr>
        <p:blipFill>
          <a:blip r:embed="rId1"/>
          <a:srcRect l="0" t="15061" r="0" b="0"/>
          <a:stretch/>
        </p:blipFill>
        <p:spPr>
          <a:xfrm>
            <a:off x="800280" y="571680"/>
            <a:ext cx="21873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7848720" y="5537160"/>
            <a:ext cx="104112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1625760" y="5473800"/>
            <a:ext cx="96660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A:\pulley.jpg"/>
          <p:cNvPicPr/>
          <p:nvPr/>
        </p:nvPicPr>
        <p:blipFill>
          <a:blip r:embed="rId4"/>
          <a:stretch/>
        </p:blipFill>
        <p:spPr>
          <a:xfrm>
            <a:off x="4740120" y="5473800"/>
            <a:ext cx="827280" cy="123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:\hammer.gif"/>
          <p:cNvPicPr/>
          <p:nvPr/>
        </p:nvPicPr>
        <p:blipFill>
          <a:blip r:embed="rId5"/>
          <a:srcRect l="41463" t="20937" r="0" b="0"/>
          <a:stretch/>
        </p:blipFill>
        <p:spPr>
          <a:xfrm>
            <a:off x="4978440" y="37530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:\IMAGES.WMF\TOOLS\HAND\TOLHN052.WMF"/>
          <p:cNvPicPr/>
          <p:nvPr/>
        </p:nvPicPr>
        <p:blipFill>
          <a:blip r:embed="rId6"/>
          <a:stretch/>
        </p:blipFill>
        <p:spPr>
          <a:xfrm>
            <a:off x="5981760" y="4273560"/>
            <a:ext cx="320040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:\IMAGES.WMF\EDU\SUPPLIES\EDUSU039.WMF"/>
          <p:cNvPicPr/>
          <p:nvPr/>
        </p:nvPicPr>
        <p:blipFill>
          <a:blip r:embed="rId7"/>
          <a:stretch/>
        </p:blipFill>
        <p:spPr>
          <a:xfrm flipH="1" rot="10800000">
            <a:off x="4572000" y="2152440"/>
            <a:ext cx="1006560" cy="109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8"/>
          <a:stretch/>
        </p:blipFill>
        <p:spPr>
          <a:xfrm>
            <a:off x="7429680" y="2006640"/>
            <a:ext cx="1498320" cy="128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9"/>
          <a:stretch/>
        </p:blipFill>
        <p:spPr>
          <a:xfrm>
            <a:off x="1544760" y="2197080"/>
            <a:ext cx="1420560" cy="11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10"/>
          <a:stretch/>
        </p:blipFill>
        <p:spPr>
          <a:xfrm>
            <a:off x="1549440" y="3886200"/>
            <a:ext cx="1130400" cy="11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11"/>
          <a:srcRect l="0" t="0" r="0" b="41033"/>
          <a:stretch/>
        </p:blipFill>
        <p:spPr>
          <a:xfrm flipH="1">
            <a:off x="4965480" y="299880"/>
            <a:ext cx="887400" cy="11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12"/>
          <a:stretch/>
        </p:blipFill>
        <p:spPr>
          <a:xfrm>
            <a:off x="7467480" y="322200"/>
            <a:ext cx="14605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amount of work being do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stance the object is mov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rection of the for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input force to move an obje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we call a machine made of more than one simple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scientists call the amount of force applied to an object to move it a distan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make up this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12120" y="2298600"/>
            <a:ext cx="1174680" cy="88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165560" y="3735360"/>
            <a:ext cx="1765440" cy="12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7042320" y="3790800"/>
            <a:ext cx="1701720" cy="119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3886200" y="5627520"/>
            <a:ext cx="1371600" cy="8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7702560" y="5457960"/>
            <a:ext cx="95868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122480" y="5448240"/>
            <a:ext cx="1798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act it, choose a performer from your team who can get you to guess the answer on the back of this card by acting out silent clues, just like charad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lpt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sculpt it, choose an artist from your team who can get you to guess the answer on the back of this card by creating a model from the play doug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w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raw it, choose an artist from your team who can get you to guess the answer on the back of this card by drawing a picture, just like Piction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Say I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win this Don’t Say It it, choose a performer from your team who can get you to guess the answer on the back of this card by giving verbal hints – but without saying the word on the back of the ca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2:05:53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22T12:44:05Z</dcterms:modified>
  <cp:revision>7</cp:revision>
  <dc:subject/>
  <dc:title>Slide 1</dc:title>
</cp:coreProperties>
</file>